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D95B-E0BD-4205-A559-B18CC8025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6C5F-051B-4DA3-A7BF-0A397F16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5EB6-298E-4BD2-AB28-2A104E674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3815-FE53-4613-ABFB-DBB847BC9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3C0D-F5E4-4DD2-BA7B-0534181B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66EF-4124-41D3-99B9-D0C1F988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3709-3565-4A6B-AF73-569DE1BA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9619-240F-4B2F-88C3-89B8A7E2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88D3-F203-439E-9D6C-C763A7B1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37DD-0862-4F0B-A045-FB42BE35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CD6C-6C46-47D2-9593-B2A7AEBB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6A46-173E-451D-902A-26121E81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47EF-CCE8-4A5C-A7D6-1C7BD70A98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f/" TargetMode="External"/><Relationship Id="rId2" Type="http://schemas.openxmlformats.org/officeDocument/2006/relationships/hyperlink" Target="file://n/" TargetMode="External"/><Relationship Id="rId3" Type="http://schemas.openxmlformats.org/officeDocument/2006/relationships/hyperlink" Target="file://r/" TargetMode="External"/><Relationship Id="rId4" Type="http://schemas.openxmlformats.org/officeDocument/2006/relationships/hyperlink" Target="file://t/" TargetMode="External"/><Relationship Id="rId5" Type="http://schemas.openxmlformats.org/officeDocument/2006/relationships/hyperlink" Target="file://v/" TargetMode="Externa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SQL Regular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EXP escape sequ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[  ]  |and (  ) and – have special mea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include in a pattern use \\ to escape the normal meaning of the charac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EXP \\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ns “find a period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EXP \\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ns “find a dash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so 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EXP Metacharac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\\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form fe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\\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new 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\\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carriage retu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\\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 t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\\v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 vertical t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\\\ is a backsla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: other languages use a single \ to escape; MySQL requires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EXP character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ter or digit: [:alnum: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pha character: [:alpha: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ace or tab: [:blank: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CII Control Chacters, ASCII 0-31 and127: ^[:cntrl: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y digit same as [1-0]: [:digit: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ntable characters but not space: [:graph: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er-case letters: [:lower: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EXP character classes (mor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y printable character: [:print: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y character not alpha and not a digit: [:punct: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y whitespace character including spaces, tabs, line feeds, carrage returns, form feed or vertical tab: ^[:space: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per case alphas: [:upper: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y hexadecimal digit: [:xdigit:] or [a-fA-F0-9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ching Multiple instances of a patter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charac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* matches 0 or m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+ matches 1 or m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 Matches 0 or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n} matches exactly this many of preceding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n,} matches at least the n number of mat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n,m} specifies an inclusive range of mat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 metacharac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^ is used to match start of text in a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$ is used to match the end of text in a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[:&lt;:]] matches a word that starts with a patt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[:&gt;:]] matches a word that ends with a patt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ular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al Strings used to match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in a variety of languages,  text editors, and operating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d using Regular Expressio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al syn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icks to create and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 MySQ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SQL offers a limited subset of Regular Expression Language t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oked using REGEX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s similarly to LI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ept more flexib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in WHERE clauses to limit query retu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REGEXP To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nd records with a field value containing an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act match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a chosen patter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 fieldName REGEXP ‘CCCC’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CCC’ is a character pattern to be exactly match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RE productLine REGEXP ‘SYM_56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turns only those rows in which the string ‘SYM_56’ appears anywhere withing the productLine fi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orks exactly like LIKE except 24 SYM_56 would be accepted with REGEXP but rejected by LIK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REGEXP To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nd field values that begin with any single character but end in a precise patter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ERE productLine REGEXP ‘.CCCC’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. Is any single charac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CCC is a precise character st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RE productLine REGEXP ‘.YM_56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turns all fields with strings that begin with any character but then contain exactly YM_5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ke: LIKE ‘%YM_56 except Like would return any record with a field value that contains YM_56 but with any number of characters prior to the M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ular Expressions and “Case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r Expression matches are not limited by c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elds containing sym_56 or sYM would be returned along with all other variations in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force case sensitivity in a regular express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EXP BINARY ‘expression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EXP with Alterna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he single pipe ‘|’ to relate two or more patter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EXP firstPattern | secondPatt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EXP firstPattern | secondPattern | thirdPatt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GEXP matching any of a set of charac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list of acceptable characters goes in square brackets [ABC]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haracters in [] are termed a s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ERE fieldName REGEXP ‘[ABC]’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uld return any field containing A B or C in combination with any other charac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ERE fieldName REGEXP ‘[ABC] large’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uld return records with fieldName containing A B or C and lar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o negate a set: REGEXP ‘[^ABC]’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uld return on those records for which the field does not contain A, B or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GEXP matching a range of charac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EXP ‘[1234567890]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EXP ‘[1-9]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match any numeric charac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EXP ‘[a-z]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tches any alpha character a through 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EXP ‘[a-d]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tches any alpha character a through 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21:34:01Z</dcterms:created>
  <dc:creator>Charlie</dc:creator>
  <dc:description/>
  <dc:language>en-US</dc:language>
  <cp:lastModifiedBy>charliem</cp:lastModifiedBy>
  <dcterms:modified xsi:type="dcterms:W3CDTF">2010-12-06T21:38:58Z</dcterms:modified>
  <cp:revision>11</cp:revision>
  <dc:subject/>
  <dc:title>MySQL Regular Expressions</dc:title>
</cp:coreProperties>
</file>